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824D-7CFE-4C47-940A-6EA84963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35F0-51F5-4022-9C32-41760DD4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86B-1DDD-49DE-8CBC-5D76D35D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09A-DD59-435F-9F72-AE3A184C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8F7A-156E-44DF-B1C6-7FD4EBEC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454B-9E3D-4208-A619-58D57A15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8234-D3CE-44B5-B2EE-64DA3E5F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BD5E-A64E-4C75-B8F5-7C5D03CB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A730-61B0-4EF1-B7DA-25654891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B884-E57C-4ABA-ACBE-D44FADAA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2DEF-8828-44DA-9136-785CAD88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F7F-8977-4239-87E9-81025B54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6AB9-3738-452C-B039-3CF1BD9A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BC6C-3E7D-4158-8B3B-C02D1042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5AB8-A43D-4761-A30A-F6FF3325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7B0B-9ACC-45D3-9FEB-3455D995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E059-0B69-4C77-9352-7BE255DE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686C-D60B-4196-BE6B-F2E55A85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45EA-65FB-4081-BC8E-96B09F4A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C685-4A23-456E-A17B-6A345FEB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A44-FE4B-492B-8E54-B7643481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016E-056D-40F7-A1B9-BEC58BA0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122-5D36-414E-8D2A-90F2FC93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3311-5839-411D-BA20-01796A6E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9157-499C-44A7-8F8B-BAC16851AC6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11FF-15CC-4E6F-80DA-37F319B5A804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een Light"/>
              </a:rPr>
              <a:t>Lets Get Rocked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o you wanna get ROCKED?!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The End 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icture of every single group</a:t>
            </a:r>
            <a:r>
              <a:rPr b="0" lang="en-US" sz="32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3366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 Small Cap"/>
              </a:rPr>
              <a:t>Def Leppard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 fact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2 pictu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Blue Highway"/>
              </a:rPr>
              <a:t>Motley Crue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 fact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2 pict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lba"/>
              </a:rPr>
              <a:t>AC/DC 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 fact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2 pict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Credit Valley"/>
              </a:rPr>
              <a:t>Warrant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 fact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2 pict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Ligurino Condensed"/>
              </a:rPr>
              <a:t>Boston</a:t>
            </a:r>
            <a:r>
              <a:rPr b="0" lang="en-US" sz="6000" spc="-1" strike="noStrike">
                <a:solidFill>
                  <a:srgbClr val="003366"/>
                </a:solidFill>
                <a:latin typeface="Ligurino Condensed"/>
              </a:rPr>
              <a:t> 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 fact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2 pict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Hurry Up"/>
              </a:rPr>
              <a:t>Twisted Sister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 fact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2 pictur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Baveuse"/>
              </a:rPr>
              <a:t>Guns&amp;Roses</a:t>
            </a:r>
            <a:r>
              <a:rPr b="0" lang="en-US" sz="6600" spc="-1" strike="noStrike">
                <a:solidFill>
                  <a:srgbClr val="003366"/>
                </a:solidFill>
                <a:latin typeface="Poornut"/>
              </a:rPr>
              <a:t> 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 fact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2 pictur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Biondi"/>
              </a:rPr>
              <a:t>Metallica</a:t>
            </a:r>
            <a:r>
              <a:rPr b="0" lang="en-US" sz="6000" spc="-1" strike="noStrike">
                <a:solidFill>
                  <a:srgbClr val="003366"/>
                </a:solidFill>
                <a:latin typeface="Sybil Green"/>
              </a:rPr>
              <a:t> 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 fact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2 pictur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2:35:22Z</dcterms:created>
  <dc:creator>SamL</dc:creator>
  <dc:description/>
  <dc:language>en-US</dc:language>
  <cp:lastModifiedBy>SamL</cp:lastModifiedBy>
  <dcterms:modified xsi:type="dcterms:W3CDTF">2009-10-14T03:09:01Z</dcterms:modified>
  <cp:revision>1</cp:revision>
  <dc:subject/>
  <dc:title>Lets Get Rocked </dc:title>
</cp:coreProperties>
</file>